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F8AB5-C81F-4190-B66E-0B7C95480CBA}" type="slidenum"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4B09F-A58D-41D0-B716-A59E9A22738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8F1E8-E481-4B0D-A484-AAE598DADC54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733-A9F4-4D7D-8337-BCFDDED0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DFE-2920-4809-BBF4-E511AED3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E72-9C57-4EEB-83D4-074A3549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DBD-1C87-4DC5-B880-34AB1E11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A0FD-5A16-46EA-A28A-7E60EC0D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1524-8E75-43DA-AF75-23A1260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E7AE-54F8-45D2-BFA3-F996356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4ADC-5AE2-4D97-B184-23FF553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1166-0FEA-4509-8595-FA61827C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8CCA-3B9C-496C-B6AB-E341DB14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29D1-E430-44FB-81A0-F4B009C5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71E-C41F-4B1F-A860-FE910A0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F70A-B12A-4882-91CC-33A0CE1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F69F-245B-4787-A65D-01B6B6D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E5D5-B4E9-465A-B336-1A7DCF43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E200-46D1-4B3E-88DD-CD6173C5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E1D3-B064-4F4F-B424-D547859C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4FCB-E15A-4FA7-9B43-D9B893D8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E481-07F0-4C31-A244-E508F8D3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85F2-DE73-4F11-9CC4-F2EDE48C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4524-CEC1-4242-BD4D-A9CC7C86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D67C-22CD-4A59-8E92-5EE4899D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586-23D6-478A-A412-8D97680C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AEC8-EAC8-4DEA-A404-B85FE076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512C-1857-49A8-A0EB-BAD5EB6D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1129-DC49-4BF0-B34B-88B7391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2BB0-BB06-4ADE-9388-AE5238B3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52EC-37BE-4312-B79A-E3A8A08E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78E7-6DA8-4522-95E1-57927537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0123-0959-4FE0-A1C0-B0DBB76D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C8DC-93AF-4E87-A828-7752FBAB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86526-233C-457B-A89D-3B536D77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CC42B-54EA-4293-A5DD-687CDDF7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E70-FD32-4BBA-BF14-2082A915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9D48-4F9A-414C-910E-50ED71F6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6F1B-008D-4C62-BAC6-B460B95C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9D74E-79CD-4F05-A5D1-8FEF78E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11FF9-D604-467E-BDE0-BC3F2E7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10CD-63C7-4ABA-8452-BBAB31F7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A952-F346-445C-A3DA-1CB0B24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36A2-0030-4DE4-9B35-FD167C5B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5D7BD-EB1C-438A-B3A5-47FF5F7F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71BD-391F-47B7-B545-4382F560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4741-51B0-45B3-852E-5E93B6E7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16B-BA24-4783-BB81-C5935E46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07E5-62C3-4A92-BFEB-F6E97B68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4F75-379F-4772-9433-68564078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30B1D-CF8B-4DD9-8F5D-E7A8A56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CD3EE-49C5-4715-8B32-3009E17E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5E225-E42C-484D-9FCD-6AD040E5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8F3EB-E4F2-437B-B09B-B1289DD5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3E327-39E9-4F16-A5A2-66B6AC2C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202E8-5749-4C48-B106-45E3AC9C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5F35A-25FB-4D0A-8FA1-7AA3A878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FF37-E92B-4F88-A210-93A432D0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B8E-A6B6-490C-A1B2-8B1F1300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A176-E389-42AB-B3E5-F36EBC63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8773-48BD-403C-BE20-F9F95F16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66C6-7880-4E7E-979D-D888876C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A681-84E9-45F4-AD0E-95818AB3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3D43E-6F37-4ED0-AB31-49210A13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4AD26-BEB0-4589-AE13-7E13A3E8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6B85E-AA09-4887-AFB3-2199B5BC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4456F-C53B-47B9-B25F-3753963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90594-2550-4633-9F42-BE6E335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6E4C4-F7AC-43AA-9485-BA6FEB8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B82-155E-4E5D-B42C-85FF98D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B6A7E-3809-46BA-9C52-871AE1D3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ECCE3-5AB4-45A9-8717-4C81F4D4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9756C-1D16-4A95-80B7-AC6C561D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6043A-E273-4932-8152-96A8D9BA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38459-85D9-4A8F-8857-140DCDB4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38E70-977C-4A2A-98E2-91DEFF5D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984A-65D0-401B-87EE-59DED88A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CCB29-DE80-4A03-80E5-96A11F0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0FD1E-5A82-46D4-AA41-865E67D0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07B1E-5FD0-4646-808A-4559CFD2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2AA-0DD5-47D3-86FD-40D029B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25562-20DD-4C5A-AA27-7A0FC4E9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7586C-79E0-4388-817B-4995E358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E899A-6C16-4FD5-B96A-915995A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605D-6D65-4275-99EF-D0ACE3B3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D84BF-9F9E-4B52-B71F-E04310CA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A8E-D370-4203-8744-9F7AE31C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49705-17D4-4B66-A151-DD89FFEF650E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04FA7-A7CE-4A92-8F33-546ABF5254E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DDD49-6FD6-4F7B-A4DC-1DAFB0514F5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8F768-3044-43F0-B4AA-74A7AA91962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6DE4D-CD15-402E-8C6F-0D2F115B239C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B68A3-4C62-4E59-AFD3-98F107E8CDD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B189D-6A2C-4EA9-A296-15FA23B604B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45C4C-7CFA-4CDF-A55E-BEE3CC7E072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6D4F2-7005-4BDD-AAA4-91B2321555C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B9FBF-B535-4C3A-9053-DE1A19C0D8CE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C08FB-A56A-47F3-80F3-627D110555AE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53F0E-817E-41B6-BA42-54EC22564DD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693E8-514F-4E8F-8C8E-3D2116AF897C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2BDD2-A877-4038-A89F-699EC6185CCB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Delaying CKD Progression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 Light"/>
              </a:rPr>
              <a:t>MODULE 2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DR. SUNITA BAVANANDAN, HOSPITAL KUALA LUMPUR, KL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A/P DR. LIM SOO KUN, PUSAT PERUBATAN UNIVERSITI MALAYA, KL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DR. ANG HOCK AUN, BAGAN SPECIALIST CENTRE, PULAU PINA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1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F42C8-5333-48A2-B8DA-DC82CB99E89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Optimal blood pressure contro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1880" y="1774800"/>
            <a:ext cx="75438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majority of CKD patients (70 - 80%) have hypertension (usually systolic) which is more severe than non-CKD patient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P lowering has an impact on all-cause mortality, cardiovascular (CV) events, stroke risk and progression of kidney diseas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ny class of antihypertensive agents can be used to control BP in CKD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owever, some antihypertensive agents have additional antiproteinuric effect [e.g. Angiotensin-Converting Enzyme Inhibitor (ACEi)/Angiotensin Receptor Blocker (ARB)]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9. MoH, Malaysia. Management of CKD in Adults. Putrajaya: MoH; 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53E2A-728A-47D8-88B2-1066F63F211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Blood pressure targe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79C42-A980-424E-B615-371C3640E75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822240" y="1800360"/>
            <a:ext cx="76374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ntihypertensive agents in CKD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36F7F-8D76-4CD2-A759-38D25FDBC4B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90560" y="1800360"/>
            <a:ext cx="7726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1" descr=""/>
          <p:cNvPicPr/>
          <p:nvPr/>
        </p:nvPicPr>
        <p:blipFill>
          <a:blip r:embed="rId1"/>
          <a:stretch/>
        </p:blipFill>
        <p:spPr>
          <a:xfrm>
            <a:off x="1193760" y="1862280"/>
            <a:ext cx="6834240" cy="44463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7583400" y="2492280"/>
            <a:ext cx="113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Lo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Irbe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Val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Telmi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398920" y="4597560"/>
            <a:ext cx="14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Perind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Enala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Rami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Capt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7559640" y="405756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m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Fe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684360" y="2460600"/>
            <a:ext cx="102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ten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et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Bis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Carvedi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642960" y="3914640"/>
            <a:ext cx="112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P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Te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oxoni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inoxid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5398920" y="1898640"/>
            <a:ext cx="14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H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Indapam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C144A-0B17-41C5-9057-EED41EB8BBB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Different classes of antiHP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nin-angiotensin system (RAS) blocker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50560" y="1844280"/>
            <a:ext cx="87138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 and ARB confer both renoprotective and cardioprotective effect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re is more evidence on the use of ACEi or ARB in proteinuric diabetic kidney disease (DKD) compared to non-proteinuric DK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 is more cost-effective than ARB. It should be prescribed first and changed to ARB only if there is non-renal adverse drug reaction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ual RAS blockade should not be prescribed routinely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ual RAS blockade may only be considered in non-DKD patients who remain hypertensive with persistent proteinuria &gt;0.5 g/day provided that serum potassium is within normal range (after discussion with nephrologist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7008B-FF5C-4781-95C6-13FC40C85EB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nin-angiotensin system (RAS) blockers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8240" y="1846440"/>
            <a:ext cx="83214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profile should be reassessed within 2 weeks upon initiation or dose escalation of ACEi/ARB therapy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/ARB should be titrated to the maximum recommended dose to achieve optimal BP and anti-proteinuric targets provided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Cr levels remain &lt;30% from the baseline (or eGFR reduces &lt;25%) o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erum potassium &lt;5.6 mmol/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onsider to reduce or discontinue ACEi/ARB within 2 months upon commencement (after excluding other precipitating factors) when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SCr levels remain ≥30% from the baseline (or eGFR reduces ≥25%)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rum potassium ≥5.6 mmol/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1D7B6-9529-4FA9-BEA8-8BDA67AC5D0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Proteinuria redu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uria is an independent predictor for renal disease progression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magnitude of baseline proteinuria has a linear relationship with progression of CKD and risk of CV event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/ARBs remain as the main agents that confer significant proteinuria reduction that leads to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gents e.g. non-dihydropyridine calcium channel blockers (CCBs), vitamin D analogues, pentoxifylline etc. also have proteinuria reduction effect but do not confer significant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FD989-2909-49D4-8C14-AC7032E4539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404040"/>
                </a:solidFill>
                <a:latin typeface="Calibri Light"/>
              </a:rPr>
              <a:t>Glycaemic control</a:t>
            </a: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 for renoprote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3141360"/>
            <a:ext cx="82090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ptimal glycaemic control should be attained to reduce the complications of diabetes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ggressive glycaemic control in patients with established CVD may increase the risks of hypoglycaemia and death due to impaired drug metabolism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gular blood glucose measurements are advised for more accurate assessment of diabetic control as HbA1c maybe falsely low in CKD due to anaemia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8D35D-617D-4255-9ACB-63A62D9EBB8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763560" y="1773360"/>
            <a:ext cx="7747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Strategies requiring more evidence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E583B-E1F1-4111-B667-300B3EAB8A0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ifestyle modific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Dietary protein restric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duction of weigh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ow salt die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moking cessa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6D323-C45B-4F93-8052-41F53D2F066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learn the natural history of CKD and impact of optimal manage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discuss established strategies to delay CKD progress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understand potential strategies to delay CKD progression that would need further evidenc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4179D-A4F8-4B3C-920D-4532ED6E339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Dietary protein restri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21880" y="3573000"/>
            <a:ext cx="7543800" cy="22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oteinuria is an independent CV risk factor and an independent predictor for renal disease progress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otein restriction is one of the supportive measures to delay CKD progress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2D4A6-A11A-46A6-AD2A-A7856AD15C4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696960" y="1916280"/>
            <a:ext cx="7907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000000"/>
                </a:solidFill>
                <a:latin typeface="Calibri Light"/>
              </a:rPr>
              <a:t>Sodium-glucose co-transporter-2 (SGLT-2) inhibitor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Potential ag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cent trials (EMPA-REG, CANVAS/CANVAS-R) on sodium-glucose co-transporter-2 (SGLT2) inhibitors have been shown to improve CV outcomes and may have renoprotective effect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39, 40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Avoid if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GFR &lt;45 ml/min </a:t>
            </a: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due to reduced efficacy in lowering HbA1c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404040"/>
                </a:solidFill>
                <a:latin typeface="Calibri"/>
              </a:rPr>
              <a:t>39. Wanner C, et al. N Engl J Med. 2016;375(4):323-34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404040"/>
                </a:solidFill>
                <a:latin typeface="Calibri"/>
              </a:rPr>
              <a:t>40. Neal B, et al. N Engl J Med. 2017;377(7):644-57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F1B26-20A1-482B-89FF-D4388BDF647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Uric acid redu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re is emerging evidence to suggest uric acid reduction (e.g. by allopurinol, febuxostat) is a potential strategy to delay CKD progress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45, 46, 47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ever, more RCTs are needed to confirm the renoprotective effect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45. Kanji T, et al. BMC Nephrol. 2015;16:58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46. Bose B, et al. Nephrol Dial Transplant. 2014;29(2):406-13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47. Sircar D, et al. Am J Kidney Dis. 2015;66(6):945-5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9C5ED-3361-48AA-9DB7-DDAF094BB5A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trategies - not prove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ual RAS blockad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ipid lower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Vitamin D analogu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entoxyfyllin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raditional medicin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A4636-021D-494B-B3BB-A4F31A74541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0BC2A-EDCA-45D4-87AB-471D40FCEEC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638280" y="1467000"/>
            <a:ext cx="7939080" cy="46195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8"/>
          <p:cNvSpPr/>
          <p:nvPr/>
        </p:nvSpPr>
        <p:spPr>
          <a:xfrm>
            <a:off x="2700360" y="6381720"/>
            <a:ext cx="61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* K/DOQI guidelines. AJKD 2002; 39 (Suppl 1): S1-S26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KD - Irreversible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D6C6E-8477-479C-B84C-8A1250BC786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1"/>
          <a:stretch/>
        </p:blipFill>
        <p:spPr>
          <a:xfrm>
            <a:off x="216000" y="1403280"/>
            <a:ext cx="8712000" cy="4354560"/>
          </a:xfrm>
          <a:prstGeom prst="rect">
            <a:avLst/>
          </a:prstGeom>
          <a:ln w="0">
            <a:noFill/>
          </a:ln>
        </p:spPr>
      </p:pic>
      <p:sp>
        <p:nvSpPr>
          <p:cNvPr id="324" name="Title 1"/>
          <p:cNvSpPr/>
          <p:nvPr/>
        </p:nvSpPr>
        <p:spPr>
          <a:xfrm>
            <a:off x="822240" y="287280"/>
            <a:ext cx="7543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KD ≠ Di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A50EE-273F-4B7E-9BAC-25034635306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Content Placeholder 2"/>
          <p:cNvGraphicFramePr/>
          <p:nvPr/>
        </p:nvGraphicFramePr>
        <p:xfrm>
          <a:off x="493560" y="1577880"/>
          <a:ext cx="837108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Conten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577880"/>
                    <a:ext cx="83710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traight Connector 4"/>
          <p:cNvSpPr/>
          <p:nvPr/>
        </p:nvSpPr>
        <p:spPr>
          <a:xfrm>
            <a:off x="4680000" y="486900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traight Connector 6"/>
          <p:cNvSpPr/>
          <p:nvPr/>
        </p:nvSpPr>
        <p:spPr>
          <a:xfrm>
            <a:off x="7740720" y="4869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1988280" y="41497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800" spc="-1" strike="noStrike">
                <a:solidFill>
                  <a:srgbClr val="ff0000"/>
                </a:solidFill>
                <a:latin typeface="Calibri"/>
              </a:rPr>
              <a:t>-10 ml/min/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4219560" y="3852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800" spc="-1" strike="noStrike">
                <a:solidFill>
                  <a:srgbClr val="ff0000"/>
                </a:solidFill>
                <a:latin typeface="Calibri"/>
              </a:rPr>
              <a:t>-5 ml/min/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5951520" y="32083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800" spc="-1" strike="noStrike">
                <a:solidFill>
                  <a:srgbClr val="ff0000"/>
                </a:solidFill>
                <a:latin typeface="Calibri"/>
              </a:rPr>
              <a:t>-2 ml/min/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traight Connector 2"/>
          <p:cNvSpPr/>
          <p:nvPr/>
        </p:nvSpPr>
        <p:spPr>
          <a:xfrm>
            <a:off x="284040" y="4795920"/>
            <a:ext cx="87789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51EA7-A9A1-4361-BF5A-B916AFD4786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The impact of interven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Content Placeholder 2" descr=""/>
          <p:cNvPicPr/>
          <p:nvPr/>
        </p:nvPicPr>
        <p:blipFill>
          <a:blip r:embed="rId1"/>
          <a:stretch/>
        </p:blipFill>
        <p:spPr>
          <a:xfrm>
            <a:off x="396720" y="1195560"/>
            <a:ext cx="8277480" cy="56433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: Rounded Corners 1"/>
          <p:cNvSpPr/>
          <p:nvPr/>
        </p:nvSpPr>
        <p:spPr>
          <a:xfrm>
            <a:off x="569880" y="1671480"/>
            <a:ext cx="1770120" cy="69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755640" y="183528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oid in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81DAA-8590-4F33-B7EB-66AF7A505F0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43920"/>
            <a:ext cx="7543800" cy="144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management pla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Content Placeholder 2" descr=""/>
          <p:cNvPicPr/>
          <p:nvPr/>
        </p:nvPicPr>
        <p:blipFill>
          <a:blip r:embed="rId1"/>
          <a:stretch/>
        </p:blipFill>
        <p:spPr>
          <a:xfrm>
            <a:off x="396720" y="1195560"/>
            <a:ext cx="8277480" cy="56433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: Rounded Corners 1"/>
          <p:cNvSpPr/>
          <p:nvPr/>
        </p:nvSpPr>
        <p:spPr>
          <a:xfrm>
            <a:off x="569880" y="1671480"/>
            <a:ext cx="1770120" cy="69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755640" y="183528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oid in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95D0E-BA23-4C53-AD26-DCEA120ED47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43920"/>
            <a:ext cx="7543800" cy="144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management pla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ontent Placeholder 6" descr=""/>
          <p:cNvPicPr/>
          <p:nvPr/>
        </p:nvPicPr>
        <p:blipFill>
          <a:blip r:embed="rId1"/>
          <a:stretch/>
        </p:blipFill>
        <p:spPr>
          <a:xfrm>
            <a:off x="469800" y="178596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8A182-71A8-4441-B0F1-BFC3989CC00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 Light"/>
              </a:rPr>
              <a:t>Strategies to delay CKD progress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Established strategie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A1C40-A931-4726-AD27-1F3C668468B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3:13:37Z</dcterms:modified>
  <cp:revision>164</cp:revision>
  <dc:subject/>
  <dc:title>SCREENING &amp; DIAGNOSIS</dc:title>
</cp:coreProperties>
</file>